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5336-4B8C-4E72-823E-057C9A2D55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EC4E-B666-403C-B484-2C650A8B4C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9EFD-6474-479B-98A8-86C323370D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13A1-7AF8-4EC8-B0E6-6520A905E6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1B647-CA1B-4C3E-A113-E29C527F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D425E-0116-4824-AEE4-78ACD8810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62007-549E-4CE5-9BA9-1144BEC23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A1A0C-EC07-4B63-9F8D-64EA30C22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2F95C-D7D6-46A8-BDD7-316F12CB4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957DD-EC94-4F3D-8DCF-B8FACEECF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25D61-B3C4-44DA-9FB3-6DF88E3FA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56378-6C99-4227-8591-F89BDA646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0ADA2-6CCC-4E2D-81B2-3C15E1062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D5EA5-5D95-4F1B-82B5-47A5EEA25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6E927-8080-4650-86FA-F7E4D5F12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36CB-2247-4F1D-8F36-0A787B5D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D7FFE-CE86-4727-9DEC-5115CE9B9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FA4A5-9483-44EF-97C1-955A1317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B7618-14D0-4922-AB68-8026446EC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B95E9-2E15-41C9-B32B-0B378F4BB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4E6C6-D945-4B78-A519-2EDD67526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AA93-D27D-4439-911A-8F6B637E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1D954-EBB0-4EFB-9C95-F3303AF9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FAB9-4081-44CE-AA70-6B90B0D5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D94F-06E4-4295-A3CE-1058C37B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9714-F9E2-4216-8EEA-559CC32F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110B7-9DC7-4AE1-B099-58C0A935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C6C4-67EF-4B9C-A131-21CB8F11E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4E5F-5621-4D88-912D-70CF2C9A70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F27E-2F93-40C6-A208-966B8EE6B8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black people represented in the media? </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431640" y="765000"/>
            <a:ext cx="8317080" cy="546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324000" y="692280"/>
            <a:ext cx="8496000" cy="53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220680" y="1484280"/>
            <a:ext cx="3747960" cy="4681440"/>
          </a:xfrm>
          <a:prstGeom prst="rect">
            <a:avLst/>
          </a:prstGeom>
          <a:ln w="0">
            <a:noFill/>
          </a:ln>
        </p:spPr>
      </p:pic>
      <p:pic>
        <p:nvPicPr>
          <p:cNvPr id="134" name="" descr=""/>
          <p:cNvPicPr/>
          <p:nvPr/>
        </p:nvPicPr>
        <p:blipFill>
          <a:blip r:embed="rId2"/>
          <a:stretch/>
        </p:blipFill>
        <p:spPr>
          <a:xfrm>
            <a:off x="4870440" y="981000"/>
            <a:ext cx="3741840" cy="54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1654200" y="260280"/>
            <a:ext cx="4452840" cy="62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2484360" y="260280"/>
            <a:ext cx="4524480" cy="615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ll hooks</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lour codes: Lighter skinned women are considered more desirable and fit better into the western ideology of beauty.</a:t>
            </a:r>
            <a:endParaRPr b="0" lang="en-US" sz="3200" spc="-1" strike="noStrike">
              <a:solidFill>
                <a:srgbClr val="000000"/>
              </a:solidFill>
              <a:latin typeface="Arial"/>
            </a:endParaRPr>
          </a:p>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ack women are objectified and sexualised in hip-hop reflecting the colonialist view of black women (sexually disposable). This is also true in film.</a:t>
            </a:r>
            <a:endParaRPr b="0" lang="en-US" sz="3200" spc="-1" strike="noStrike">
              <a:solidFill>
                <a:srgbClr val="000000"/>
              </a:solidFill>
              <a:latin typeface="Arial"/>
            </a:endParaRPr>
          </a:p>
          <a:p>
            <a:pPr marL="325800" indent="-32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dified blackness, a mediated view of black culture that is considered the n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2" dur="500"/>
                                        <p:tgtEl>
                                          <p:spTgt spid="1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7"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art Hall</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dia and therefore audiences often blur race and class. Often associating particular races with a particular class.</a:t>
            </a:r>
            <a:endParaRPr b="0" lang="en-US" sz="3000" spc="-1" strike="noStrike">
              <a:solidFill>
                <a:srgbClr val="000000"/>
              </a:solidFill>
              <a:latin typeface="Arial"/>
            </a:endParaRPr>
          </a:p>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ence reception theory; audiences read/understand a particular text according to their cultural upbringing.</a:t>
            </a:r>
            <a:endParaRPr b="0" lang="en-US" sz="3000" spc="-1" strike="noStrike">
              <a:solidFill>
                <a:srgbClr val="000000"/>
              </a:solidFill>
              <a:latin typeface="Arial"/>
            </a:endParaRPr>
          </a:p>
          <a:p>
            <a:pPr marL="332640" indent="-33264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stern (white dominated) cultures. Continue to misinterpret ethnic minorities in the media due to underlying racist tendencies. Ethnic minorities are often represented as ‘the o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4" dur="500"/>
                                        <p:tgtEl>
                                          <p:spTgt spid="1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9" dur="500"/>
                                        <p:tgtEl>
                                          <p:spTgt spid="14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34"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art Hall</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s there are three different roles that film and TV have previously put black people into.</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se roles still apply today.</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nd the different roles in the reading I handed you?</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light them and write them down in your books. Think of 1 or 2 contemporary roles that would fit within that represent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ul Gilroy</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ack music articulated diasporic experiences of resistance to white capitalist culture.</a:t>
            </a:r>
            <a:endParaRPr b="0" lang="en-US" sz="3200" spc="-1" strike="noStrike">
              <a:solidFill>
                <a:srgbClr val="000000"/>
              </a:solidFill>
              <a:latin typeface="Arial"/>
            </a:endParaRPr>
          </a:p>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loys the notion of ‘diaspora’ and how ethnic minorities (particularly black people) experience dislocation from their homeland. E.g. feeling as if you do not totally belong in Britain but you also are considered ‘English’ in the Caribbean, Africa or Asia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41" dur="500"/>
                                        <p:tgtEl>
                                          <p:spTgt spid="14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46"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chel Foucault</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the term Foucault used during the 1960s to describe his approach to writing history.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about examining the discursive traces and orders left by the past in order to write a 'history of the present'.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aeology is about looking at history as a way of understanding the processes that have led to what we are today. </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when analyzing your contemporary case studies you take into account those past representations and how they have contributed to what we have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53" dur="500"/>
                                        <p:tgtEl>
                                          <p:spTgt spid="15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8" dur="500"/>
                                        <p:tgtEl>
                                          <p:spTgt spid="15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63" dur="500"/>
                                        <p:tgtEl>
                                          <p:spTgt spid="150">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68"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arning Objectiv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how and why black people are represented within the media the way they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identify and understand theorists views on this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ly theory to images</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ould we apply the ideas of bell hooks, Stuart Hall, Paul Gilroy and Michael Foucault to the images we’ve analy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have we learned?</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ne of the theorists discussed today and one element of their theor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theorist believes that black people fit into three specific roles in film and TV?</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 theory would the image of Beyonce fit int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representation is the 50 Cent imag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your first impression of the Trident campaign i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 Work Feedback</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4 ro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y do you think these roles came ab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 Work</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research of different media representations of black culture. Begin looking up additional information on the theorists analysed today. Make some notes about what you find in your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k</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the following images, what type of representation do you s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s many words or sentences as you can think of for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do you se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468360" y="1628640"/>
            <a:ext cx="3044880" cy="4248360"/>
          </a:xfrm>
          <a:prstGeom prst="rect">
            <a:avLst/>
          </a:prstGeom>
          <a:ln w="0">
            <a:noFill/>
          </a:ln>
        </p:spPr>
      </p:pic>
      <p:pic>
        <p:nvPicPr>
          <p:cNvPr id="115" name="" descr=""/>
          <p:cNvPicPr/>
          <p:nvPr/>
        </p:nvPicPr>
        <p:blipFill>
          <a:blip r:embed="rId2"/>
          <a:stretch/>
        </p:blipFill>
        <p:spPr>
          <a:xfrm>
            <a:off x="3708360" y="1727280"/>
            <a:ext cx="4967280" cy="385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2268360" y="1700280"/>
            <a:ext cx="4105440" cy="41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1692360" y="1197000"/>
            <a:ext cx="5172120" cy="433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1258920" y="1644480"/>
            <a:ext cx="6769080" cy="423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5:37:00Z</dcterms:created>
  <dc:creator>martinaos</dc:creator>
  <dc:description/>
  <dc:language>en-US</dc:language>
  <cp:lastModifiedBy>martinaos</cp:lastModifiedBy>
  <dcterms:modified xsi:type="dcterms:W3CDTF">2010-09-17T06:26:27Z</dcterms:modified>
  <cp:revision>9</cp:revision>
  <dc:subject/>
  <dc:title>How are black people represented in the media? </dc:title>
</cp:coreProperties>
</file>